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434840"/>
            <a:ext cx="86058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43484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9320" y="443484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9200" y="4434840"/>
            <a:ext cx="277092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43484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434840"/>
            <a:ext cx="8605800" cy="21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15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6200" y="6732720"/>
            <a:ext cx="990612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8280" y="6970680"/>
            <a:ext cx="7430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4e57"/>
                </a:solidFill>
                <a:latin typeface="Arial"/>
                <a:ea typeface="HG Mincho Light J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52600" y="6743880"/>
            <a:ext cx="717480" cy="610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823160" y="6753240"/>
            <a:ext cx="2124000" cy="560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9312120" y="6676920"/>
            <a:ext cx="671760" cy="730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e6ff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ff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ff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ff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ff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4" marL="2158920" indent="-215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3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ff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5" marL="2158920" indent="-215640">
              <a:lnSpc>
                <a:spcPct val="111000"/>
              </a:lnSpc>
              <a:spcAft>
                <a:spcPts val="1551"/>
              </a:spcAft>
              <a:buClr>
                <a:srgbClr val="000000"/>
              </a:buClr>
              <a:buSzPct val="3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ff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6" marL="2158920" indent="-215640">
              <a:lnSpc>
                <a:spcPct val="111000"/>
              </a:lnSpc>
              <a:spcAft>
                <a:spcPts val="1551"/>
              </a:spcAft>
              <a:buClr>
                <a:srgbClr val="000000"/>
              </a:buClr>
              <a:buSzPct val="3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ff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Il Software Libero nell'impresa</a:t>
            </a:r>
            <a:br>
              <a:rPr sz="2800"/>
            </a:br>
            <a:r>
              <a:rPr b="1" lang="en-GB" sz="16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Andrea Capriotti 01.12.2001</a:t>
            </a:r>
            <a:endParaRPr b="1" lang="en-US" sz="1600" spc="-1" strike="noStrike">
              <a:solidFill>
                <a:srgbClr val="e6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3960" y="1757520"/>
            <a:ext cx="4200480" cy="462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02280" y="2722680"/>
            <a:ext cx="24670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ftware Libero e Business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Valore aggiunto </a:t>
            </a: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indirett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Chi produce documentazione è avvantaggiato e questo agevola il client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I consulenti potranno conoscere meglio il software e quindi i clienti avranno un mercato piu' competente e competitivo a cui attinger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Entità esterne interessate al software possono trovare errori, correggerli e contribuire alla qualità del prodotto (minore costo di debug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Altre aziende possono aggiungere funzionalità e questo favorisce i client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Modelli di business per i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Distribuzione software e support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Non tutti sono in grado di “costruire” il proprio sistema operativo (kernel Linux + applicazioni + utility e software di installazione) quindi esistono aziende che si occupano di quest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Red Hat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Suse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Mandrake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Turbo Linux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Vendita copie, manuali, sfruttamento del marchio, vendita corsi, consulenza, sviluppo, supporto post-vendita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Modelli di business per i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Vendita serviz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Fornitura servizi di supporto tecnic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Personalizzazione software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Corsi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Consulenza e correzione errori (a pagamento)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56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6ff00"/>
                </a:solidFill>
                <a:latin typeface="Times New Roman"/>
              </a:rPr>
              <a:t>VA Linux</a:t>
            </a:r>
            <a:endParaRPr b="0" lang="en-US" sz="16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56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6ff00"/>
                </a:solidFill>
                <a:latin typeface="Times New Roman"/>
              </a:rPr>
              <a:t>Innominate A.G.</a:t>
            </a:r>
            <a:endParaRPr b="0" lang="en-US" sz="16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56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6ff00"/>
                </a:solidFill>
                <a:latin typeface="Times New Roman"/>
              </a:rPr>
              <a:t>Prosa</a:t>
            </a:r>
            <a:endParaRPr b="0" lang="en-US" sz="16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56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6ff00"/>
                </a:solidFill>
                <a:latin typeface="Times New Roman"/>
              </a:rPr>
              <a:t>Init.d</a:t>
            </a:r>
            <a:endParaRPr b="0" lang="en-US" sz="16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56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6ff00"/>
                </a:solidFill>
                <a:latin typeface="Times New Roman"/>
              </a:rPr>
              <a:t>AC Open</a:t>
            </a:r>
            <a:endParaRPr b="0" lang="en-US" sz="16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Modelli di business per i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Vantaggi di questo approcci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Ridotto capitale di partenza per l'impresa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Piani di crescita gradual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Possibilità di basare i propri affari sulla competenza dei dipendenti e non su accordi commerciali con i vendor tradizional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cambio con la comunità che genera clienti e pubblicità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Prosa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ed </a:t>
            </a: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ETLinux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Ximian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e </a:t>
            </a: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GNOME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Modelli di business per i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oftware per il funzionamento dell'hardwar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Spesa di sviluppo è spesso molto onerosa e serve da valore aggiunto per l'hardware che si vend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Minore costi di sviluppo e pubblicità gratuita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Eurotech</a:t>
            </a: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 (schede e PC industriali)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Matrox</a:t>
            </a: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 (schede video)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Kodak</a:t>
            </a: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 (DC4800 macchina fotografica digitale)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AgendaComputing</a:t>
            </a: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 (palmare con kernel Linux)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Modelli di business per i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Documentazion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Vendita manuali, libri, riviste (spesso, grazie all'uso di FDL, anche questa documentazione è libera, con i vantaggi che ne conseguono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O'Reilly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6ff00"/>
                </a:solidFill>
                <a:latin typeface="Times New Roman"/>
              </a:rPr>
              <a:t>Hops Libri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Prodotti civetta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Distribuito per favorire la vendita di altri prodotti, hardware o software non liberi (in calo).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56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6ff00"/>
                </a:solidFill>
                <a:latin typeface="Times New Roman"/>
              </a:rPr>
              <a:t>Netscape</a:t>
            </a:r>
            <a:endParaRPr b="0" lang="en-US" sz="1600" spc="-1" strike="noStrike">
              <a:solidFill>
                <a:srgbClr val="e6ff00"/>
              </a:solidFill>
              <a:latin typeface="Times New Roman"/>
            </a:endParaRPr>
          </a:p>
          <a:p>
            <a:pPr lvl="3" marL="1727280" indent="-216000">
              <a:lnSpc>
                <a:spcPct val="111000"/>
              </a:lnSpc>
              <a:spcAft>
                <a:spcPts val="561"/>
              </a:spcAft>
              <a:buClr>
                <a:srgbClr val="ffffff"/>
              </a:buClr>
              <a:buSzPct val="6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6ff00"/>
                </a:solidFill>
                <a:latin typeface="Times New Roman"/>
              </a:rPr>
              <a:t>OpenOffice</a:t>
            </a:r>
            <a:endParaRPr b="0" lang="en-US" sz="16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stenibilità commercial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Per i </a:t>
            </a: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consulenti autonom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Aziende sono vittime del software adottato, adattano le loro esigenze ai pacchetti proprietari che utilizzano. Il software libero rovescerebbe questo atteggiamendo aprendo il mercato ai consulent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Esempio del software per laboratori di fisiologia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Chiunque puo' costruire la propria professionalità senza pagare tributi per accedere alle fonti dell'informazione di cui ha bisogn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Decentramento del sapere grazie alla conoscenza del sorgente e all'utilizzo di standard apert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stenibilità commercial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Per le </a:t>
            </a: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società di assistenza tecnica</a:t>
            </a: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751320" indent="-24984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Garanzia di funzionamento di un sistema informatico di importanza critica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51320" indent="-24984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Possibilità di investire in sviluppo di software liber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126800" indent="-18756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Associare il marchio ad un prodotto e migliorarlo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1" marL="751320" indent="-24984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Creare e tenere aggiornata una distribuzione (a seconda della tipologia di utente ci sono differenti esigenze e pacchetti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375480" indent="-28152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Per i </a:t>
            </a: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centri di formazione, scuole e università</a:t>
            </a: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751320" indent="-24984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Non comporta, necessariamente, un risparmio di denaro ma è un investimento migliore. Incrementerebbe l'impiego di risorse umane locali e non l'acquisto di beni provenienti da multinazionali stranier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51320" indent="-24984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'utilizzo di software proprietario e' ammissibile solo se non esistono effettive alternative o se si viene pagati dal produttor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Futuro de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Le prospettive future sembrano molto promettent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i sta passando dall'ambito “server” a quello “desktop”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GNOME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- desktop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KDE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- desktop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Gimp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- grafica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Evolution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- posta elettronica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Mozilla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- browser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Gnumeric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– foglio di calcolo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OpenOffice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– suite office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Futuro de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371160" indent="-27828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Critich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742680" indent="-24696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Non è la soluzione di tutti i problemi legati al software (condivisibile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42680" indent="-24696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Un numero elevato di sviluppatori che partecipano ad un progetto potrebbero rallentare lo sviluppo (parzialmente condivisibile e smentita da molti progetti come appunto Linux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42680" indent="-24696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Alcuni software, poco appetibili, non vengono sviluppati e seguiti a sufficienza (condivisibile, magari sono poco importanti ma rischiano di essere il “collo di bottiglia” di progetti piu' importanti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42680" indent="-24696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Critica al “debugging parallelo”. Correggere errori in maniera “distribuita” rischia di crearne nuovi (parzialmente condivisibile e smentita dai “moderni sistemi di bug tracking e TT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42680" indent="-24696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Non necessariamente un prodotto libero è migliore di uno proprietario (condivisibile anche se, mediamente, accade proprio questo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Licenza GNU GPL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0960" y="2097000"/>
            <a:ext cx="85802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Presentazione che introduce a GNU/Linux e al Software Libero nell'impres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pyright (C) 2001  &lt;Andrea Capriotti&gt; &lt;a.capriotti@nextra.i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program is free software; you can redistribute it and/or mod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under the terms of the GNU General Public License as publish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ree Software Foundation; either version 2 of the Licens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t your option) any later 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program is distributed in the hope that it will be usefu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t WITHOUT ANY WARRANTY; without even the implied warran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CHANTABILITY or FITNESS FOR A PARTICULAR PURPOSE.  Se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NU General Public License for more deta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should have received a copy of the GNU General Public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ong with this program; if not, write to the Fre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HG Mincho Light J"/>
              </a:rPr>
              <a:t>Foundation, Inc., 675 Mass Ave, Cambridge, MA 02139, U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Futuro del Software Liber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Critich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55000" indent="-28440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Conflitti e problemi di competizione all'interno della comunità (parzialmente condivisibile e comunque presente anche nel mondo proprietario, nel team degli sviluppatori)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427320" indent="-32040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Commento.</a:t>
            </a: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55000" indent="-28440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Pur essendo fondate le critiche sono di scarsa rilevanza se si considerano i vantaggi pratici della rimozione di vincoli, dovuti a pratiche legali o illegali, che attualmente tolgono spazio alla libera impresa in un settore strategico come quello dei serviz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55000" indent="-28440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Maggiori opportunità alle Piccole e Medie Imprese (PMI) locali che hanno la possibilità di competere, con bassi investimenti, in questo mercat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Conclusioni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Grande </a:t>
            </a: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opportunità</a:t>
            </a: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 per clienti (utenti in generale) e impres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PM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Maggiore autonomia e libertà nei confronti dei produttori tradizional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Minore TC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inergie tra pubblica amministrazione e tessuto economico locale per sostenere un modello di sviluppo, </a:t>
            </a: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etico e collaborativo</a:t>
            </a: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, che genera </a:t>
            </a: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ricchezza e lavoro</a:t>
            </a: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 localment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Bibliografia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ESI: modelli di business per il Software Libero.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- Luca Didonè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ttp://superdido.com/luca/tesi/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oftware libero e sostenibilità commerciale.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- Alessandro Rubini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ttp://www.gnu.org/philosophy/software-libre-commercial-viability.it.html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pen Source Software Development as a Special Type of Academic Research (Chritique of Vulgar Raymodism).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- Nicolai Bezroukov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ttp://firstmonday.org/issues/issue4_10/bezroukov/index.html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he Competitive Advantage of Free Software.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- Alexandre Oliva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ttp://www.ic.unicamp.br/~oliva/papers/free-software/selection-html/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Introduzion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8440" indent="-2912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Chi son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388440" indent="-2912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Cosa fa l'azienda per cui lavor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388440" indent="-2912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Quale software utilizziam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777240" indent="-2584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Apache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 http://www.apache.org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77240" indent="-2584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Sendmail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 http://www.sendmail.org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77240" indent="-2584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Bind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 http://www.isc.org/products/BIND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77240" indent="-2584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Inn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- http://www.isc.org/inn.html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77240" indent="-2584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Achievo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– http://www.achievo.org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77240" indent="-2584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Sympa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e </a:t>
            </a: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Mailman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http://listes.cru.fr/sympa/ e http://www.list.org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777240" indent="-2584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Netsaint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 http://www.netsaint.org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Introduzione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Motivazioni delle nostre scelt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03160" indent="-26712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Considerazioni pragmatiche di carattere tecnic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04560" indent="-20052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Efficienza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04560" indent="-20052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Stabilità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04560" indent="-20052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Versatilità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04560" indent="-20052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Sicurezza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1" marL="803160" indent="-26712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Considerazioni economiche e di mercat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04560" indent="-20052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04560" indent="-20052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Scelta del fornitore e dei consulenti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04560" indent="-20052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Portabilità dei dati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marL="401400" indent="-30096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Estensione delle motivazioni ad altre aziende e pubbliche amministrazioni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New Economy ed esigenze del mercato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Informazion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Nuove esigenze dei clienti (Just-in-time, produzione flessibile, ottimizzazione organizzativa, qualità totale)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Come si inserisce il software libero in questo process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Bassa soglia d'ingress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Patto etico con la comunità – GPL e copyleft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Vantaggio per i consumator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ftware Libero e Business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copo dell'impresa: il profitt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Attuale mercato del software tende ad un oligopoli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eggi inadeguate o non rispettat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Strategie economiche e di marketing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Fatturato basato sulla vendita di copie e occultamento delle conoscenz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Vantaggi del Software Liber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ibero mercat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Approccio collaborativo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Maggiore competitività per PMI e aziende local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ftware Libero e Business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Vantaggi per chi acquista il softwar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TCO – Total Cost of Ownership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Pianificazione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Adeguamento sistemi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Efficienza operativa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Servizi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Aggiornamento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Costo dovuto ad incidenti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ftware Libero e Business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Servizi come fonte di reddito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ff00"/>
                </a:solidFill>
                <a:latin typeface="Times New Roman"/>
              </a:rPr>
              <a:t>Nell'ottica di chi produce softwar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La vendita di software è perfettamente compatibile con la licenza GPL.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ttp://www.gnu.org/philosophy/selling.it.html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Vantagg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Evoluzione del prodotto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Qualità del prodotto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Mantenimento del prodotto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Reclutamento personale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ff00"/>
                </a:solidFill>
                <a:latin typeface="Times New Roman"/>
                <a:ea typeface="HG Mincho Light J"/>
              </a:rPr>
              <a:t>Software Libero e Business</a:t>
            </a:r>
            <a:endParaRPr b="1" lang="en-US" sz="2800" spc="-1" strike="noStrike">
              <a:solidFill>
                <a:srgbClr val="e6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Aft>
                <a:spcPts val="1551"/>
              </a:spcAft>
              <a:buClr>
                <a:srgbClr val="ffffff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ff00"/>
                </a:solidFill>
                <a:latin typeface="Times New Roman"/>
              </a:rPr>
              <a:t>Codice Sorgente.</a:t>
            </a:r>
            <a:endParaRPr b="0" lang="en-US" sz="22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Non è una risorsa da nascondere per tutelare il business aziendale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1" marL="863640" indent="-287280">
              <a:lnSpc>
                <a:spcPct val="111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Fornirlo al cliente è valore aggiunto </a:t>
            </a:r>
            <a:r>
              <a:rPr b="1" lang="en-GB" sz="2000" spc="-1" strike="noStrike">
                <a:solidFill>
                  <a:srgbClr val="e6ff00"/>
                </a:solidFill>
                <a:latin typeface="Times New Roman"/>
              </a:rPr>
              <a:t>diretto </a:t>
            </a:r>
            <a:r>
              <a:rPr b="0" lang="en-GB" sz="2000" spc="-1" strike="noStrike">
                <a:solidFill>
                  <a:srgbClr val="e6ff00"/>
                </a:solidFill>
                <a:latin typeface="Times New Roman"/>
              </a:rPr>
              <a:t>al software e ai servizi.</a:t>
            </a:r>
            <a:endParaRPr b="0" lang="en-US" sz="20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Protezione dell'investimento nel caso che il produttore del software scompaia.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Chi ne ha le capacità può comprendere meglio come funziona un programma.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Apportare modifiche (da soli o commisionandoli a consulenti esterni).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Adattare ad altri sistemi operativi ed allargare il mercato.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  <a:p>
            <a:pPr lvl="2" marL="1295280" indent="-215640">
              <a:lnSpc>
                <a:spcPct val="111000"/>
              </a:lnSpc>
              <a:spcAft>
                <a:spcPts val="850"/>
              </a:spcAft>
              <a:buClr>
                <a:srgbClr val="ffffff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ff00"/>
                </a:solidFill>
                <a:latin typeface="Times New Roman"/>
              </a:rPr>
              <a:t>I clienti possono personalizzare il pacchetto.</a:t>
            </a:r>
            <a:endParaRPr b="0" lang="en-US" sz="1800" spc="-1" strike="noStrike">
              <a:solidFill>
                <a:srgbClr val="e6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