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43484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932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920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200" y="6732720"/>
            <a:ext cx="990612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8280" y="6970680"/>
            <a:ext cx="743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4e57"/>
                </a:solidFill>
                <a:latin typeface="Arial"/>
                <a:ea typeface="HG Mincho Light J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2600" y="6743880"/>
            <a:ext cx="717480" cy="610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854840" y="6729480"/>
            <a:ext cx="2079720" cy="6141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9312120" y="6676920"/>
            <a:ext cx="671760" cy="730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e6ff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l Software Libero come scelta di consumo critico</a:t>
            </a:r>
            <a:br>
              <a:rPr sz="2800"/>
            </a:br>
            <a:r>
              <a:rPr b="1" lang="en-GB" sz="16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Andrea Capriotti 01.07.2002</a:t>
            </a:r>
            <a:endParaRPr b="1" lang="en-US" sz="1600" spc="-1" strike="noStrike">
              <a:solidFill>
                <a:srgbClr val="e6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08640" y="1787400"/>
            <a:ext cx="4200480" cy="462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0040" y="2630520"/>
            <a:ext cx="24670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Precisazioni su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libero NON è gratuit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gratuito NON è liber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libero NON è privo di copyright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'introduzione del software libero nella scuola e nella pubblica amministrazione, ma anche nei paesi poveri, non necessariamente ridurrebbe i costi relativi al softwar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ware e etica professional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Anomalia dell'informatica rispetto alle altre scienz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'etica professional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prodotto softwar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Analogia con la letteratura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Esempi di questo approccio nella storia dell'informatica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Reti di calcolatori - TCP/IP (Jon Postel)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World Wide Web - HTML (Tim Berners Lee)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istemi Operativi – GNU/Linux (Stallman e Torvalds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Piedone il Finnic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e scarpe numero 47 e i problemi di un sistema produttivo incentrato esclusivamente sulla generazione del profitt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Truffe” informatich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istemi operativi preinstallati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irus e antivirus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mitazioni al commercio del software sono anticompetitiv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GNU GPL favorisce il libero mercato del softwar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l software libero nel social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struzione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Maggiore possibilità di studio (codice sorgente disponibile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Minore obsolescenza delle aule informatich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tandardizzazione a livello internazionale dei protocolli di comunicazione e del formato dei dat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Organizzazioni non-profit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Indipendenza dai fornitori di softwar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Riutilizzo di vecchi calcolator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aesi in via di sviluppo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l software libero e l'insegnament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Ruolo della scuola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Obiezione al software libero (nel “mondo del lavoro” lo studente troverà sistemi proprietari)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Rendere autonomi gli student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Art. 33 della costituzione: "L'arte e la scienza sono libere e libero ne e' l'insegnamento" 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Fare pubblicità gratuita ai produttori di software proprietario è un controsens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Favorire l'utilizzo delle risorse umane piuttosto che l'acquisto di prodotti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Perché il software non deve avere padroni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nformazione digitale e diritto d'autore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stampa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ratiche sempre piu' “severe” per imporre il rispetto del diritto d'autor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ropaganda dei proprietari di software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Uso dei nomi (pirateria, furto, proprietà intellettuale)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Esagerazion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egg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Diritti natural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Economia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Bibliografia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Cos'è il software libero?: http://www.linux.it/GNU/softwarelibero.s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anoramica del Progetto GNU: http://it.gnu.org/gnu/gnu-history.it.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progetto GNU: http://it.gnu.org/gnu/thegnuproject.it.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Classificazione del software libero e non: http://it.gnu.org/philosophy/categories.it.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cenze varie e commenti relativi: http://it.gnu.org/licenses/license-list.it.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Bibliografia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Verso un'etica del software: http://www.linux.it/GNU/articoli/etica-sw.s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iedone il Finnico: http://www.linux.it/GNU/articoli/piedone.s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nux nel Sociale: http://www.linux.it/GNU/articoli/sociale.s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libero è economicamente sostenibile: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http://www.linux.it/GNU/articoli/software-libre-commercial-viability.it.s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erché il software non deve avere padroni: http://it.gnu.org/philosophy/why-free.it.htm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Licenza GNU GPL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0960" y="2097000"/>
            <a:ext cx="858024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Presentazione che introduce a GNU/Linux e al Software Libero nell'impres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pyright (C) 2001  &lt;Andrea Capriotti&gt; &lt;a.capriotti@nextra.i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program is free software; you can redistribute it and/or mod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under the terms of the GNU General Public License as publish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ree Software Foundation; either version 2 of the Licens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t your option) any later 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program is distributed in the hope that it will be usefu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 WITHOUT ANY WARRANTY; without even the implied warran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CHANTABILITY or FITNESS FOR A PARTICULAR PURPOSE.  Se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NU General Public License for more deta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should have received a copy of the GNU General Public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ong with this program; if not, write to the Fre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undation, Inc., 675 Mass Ave, Cambridge, MA 02139,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Cos'è il software libero?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rincipio della libertà di scambio di idee e di informazioni in ambito scientific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bertà di pensiero e di espression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Richard M. Stallman e le quattro libertà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ibertà 0, o libertà fondamentale: La libertà di eseguire il programma per qualunque scopo, senza vincoli sul suo utilizzo. 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ibertà 1: La libertà di studiare il funzionamento del programma, e di adattarlo alle proprie esigenze. 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ibertà 2: La libertà di redistribuire copie del programma. 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ibertà 3: La libertà di migliorare il programma, e di distribuirne i miglioramenti. 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43040" y="2265480"/>
            <a:ext cx="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96960" y="4200480"/>
            <a:ext cx="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L progetto GNU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Panoramica del Progetto GNU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prima comunità di condivisione del softwar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comunità si dissolv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Una difficile scelta moral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kernel Linux ed il sistema operativo GNU/Linux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Rendere il software proprietario obsolet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GNOM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Evolution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OpenOffice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89080" y="2741760"/>
            <a:ext cx="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 </a:t>
            </a: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Classificazione del softwar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liber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Open Sourc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di pubblico domini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con permesso d'autore (copyleft) 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libero senza permesso d'autor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con licenza GNU GPL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semiliber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 </a:t>
            </a: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Classificazione del softwar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proprietario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Freewar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Sharewar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software commerciale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 </a:t>
            </a: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Licenze d'uso di un programma 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cenze di software libero compatibili con la GNU GPL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GNU General Public License - GNU GP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GNU Lesser General Public License - GNU LGP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di Guil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X11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ublic Domain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BSD modificata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di Perl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Artistica chiarificata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 </a:t>
            </a: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Licenze d'uso di un programma 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cenze di software libero incompatibili con la GNU GPL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BSD (originale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Apache (versione 1.0 e versione 1.1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di Vim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icenza pubblica IBM (versione 1.0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pubblica del Progetto LaTeX – LPP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Pubblica Mozilla - MP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Pubblica Sun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Pubblica Netscape – NP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PHP, versione 2.02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 </a:t>
            </a: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Licenze d'uso di un programma 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cenze per software non libero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Artistic (originale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Apple Public Source - APS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un Solaris Source Code (versione 1.1)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"Aladdin Free Public License"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a Licenza di YaST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Licenze per documentazione libera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GNU FDL, FreeBSD Documentation, Open Pubblication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ff00"/>
                </a:solidFill>
                <a:latin typeface="Times New Roman"/>
              </a:rPr>
              <a:t>Il permesso d'autore (copyleft).</a:t>
            </a:r>
            <a:endParaRPr b="0" lang="en-US" sz="24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